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3DB-5692-4604-A3DA-0AFFF343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D0C-00CF-4CF7-BCE8-099D7A2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B94-E70E-4C64-98C8-981F61C5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94E-3624-49DF-A325-005ED574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CF5-E45A-42F2-A5A7-F47551A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546-400D-421D-BF55-77559B0C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E55-25FC-41E7-AA34-7DF98B6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DE6-AF2B-4355-BCE4-561EC58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9BF-CDCE-4E93-8ABF-6C8D1FF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9F4-CD90-460D-B6DD-56FC955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764-4F24-4D5A-8456-3DEB061C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852-E145-4B89-BEA1-96771BFD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D7F-96EC-4289-A008-2D8A338B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125360"/>
            <a:ext cx="77025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Алгоритми проведення і опрацювання результатів різних видів контролю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авчальної діяльності студентів ВН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1280" y="3465000"/>
            <a:ext cx="6050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еценко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Інна Вячеслав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84160" y="4268880"/>
            <a:ext cx="78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каський державний технолог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84160" y="4743360"/>
            <a:ext cx="784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v66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3033360"/>
            <a:ext cx="795672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іодичність 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у кількість пропусків для допуску до захисту ЛР та контрольно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а кількість успішного контролю відвідування для допуску до екзаме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ий рівень складності дисциплі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також кількість модулів, обсяг годин у модулі, середній час, що витрачається на захист ЛР(контрольної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58920" y="368280"/>
            <a:ext cx="82803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шук оптимальних параметрів системи контролю та оцінювання навча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4614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екзам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модульної контрольно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модул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лабораторної робо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лабораторних робі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ження оптимального значення допустимої кількості пропус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3280" y="2060640"/>
                <a:ext cx="82818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3794040"/>
          <a:ext cx="3313080" cy="2333880"/>
        </p:xfrm>
        <a:graphic>
          <a:graphicData uri="http://schemas.openxmlformats.org/drawingml/2006/table">
            <a:tbl>
              <a:tblPr/>
              <a:tblGrid>
                <a:gridCol w="1952640"/>
                <a:gridCol w="1360440"/>
              </a:tblGrid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а кількість пропусків у відсотках до загальної кількост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якості навч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6000" y="1015920"/>
          <a:ext cx="3276360" cy="2521080"/>
        </p:xfrm>
        <a:graphic>
          <a:graphicData uri="http://schemas.openxmlformats.org/drawingml/2006/table">
            <a:tbl>
              <a:tblPr/>
              <a:tblGrid>
                <a:gridCol w="1860480"/>
                <a:gridCol w="14158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а кількість пропусків у відсотках до загальної кількост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ій вибору параметрі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780000" y="1052640"/>
          <a:ext cx="507672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052640"/>
                    <a:ext cx="507672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43280" y="3681360"/>
          <a:ext cx="5133960" cy="24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3681360"/>
                    <a:ext cx="51339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92720" y="1521000"/>
            <a:ext cx="179640" cy="222120"/>
          </a:xfrm>
          <a:custGeom>
            <a:avLst/>
            <a:gdLst/>
            <a:ahLst/>
            <a:rect l="l" t="t" r="r" b="b"/>
            <a:pathLst>
              <a:path w="113" h="140">
                <a:moveTo>
                  <a:pt x="0" y="23"/>
                </a:moveTo>
                <a:cubicBezTo>
                  <a:pt x="13" y="81"/>
                  <a:pt x="26" y="140"/>
                  <a:pt x="45" y="136"/>
                </a:cubicBezTo>
                <a:cubicBezTo>
                  <a:pt x="64" y="132"/>
                  <a:pt x="98" y="26"/>
                  <a:pt x="11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57200" y="27468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допустимої кількості пропусків складає 0,67 або 2/3 від загальної кількості пропус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2708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екзам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модульної контрольно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модул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мовірність не складання лабораторної робо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лабораторних робі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ження оптимальної складності екза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6360" y="2060640"/>
                <a:ext cx="7993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95280" y="873000"/>
          <a:ext cx="3168720" cy="2327400"/>
        </p:xfrm>
        <a:graphic>
          <a:graphicData uri="http://schemas.openxmlformats.org/drawingml/2006/table">
            <a:tbl>
              <a:tblPr/>
              <a:tblGrid>
                <a:gridCol w="1552680"/>
                <a:gridCol w="16160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ість дисципл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критері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51280" y="800280"/>
          <a:ext cx="513396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800280"/>
                    <a:ext cx="513396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68360" y="3573360"/>
          <a:ext cx="3132000" cy="2516040"/>
        </p:xfrm>
        <a:graphic>
          <a:graphicData uri="http://schemas.openxmlformats.org/drawingml/2006/table">
            <a:tbl>
              <a:tblPr/>
              <a:tblGrid>
                <a:gridCol w="1457280"/>
                <a:gridCol w="16747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ість дисципл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ня якості навч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51280" y="3608280"/>
          <a:ext cx="5005440" cy="252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608280"/>
                    <a:ext cx="5005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580000" y="1160640"/>
            <a:ext cx="179280" cy="222120"/>
          </a:xfrm>
          <a:custGeom>
            <a:avLst/>
            <a:gdLst/>
            <a:ahLst/>
            <a:rect l="l" t="t" r="r" b="b"/>
            <a:pathLst>
              <a:path w="113" h="140">
                <a:moveTo>
                  <a:pt x="0" y="23"/>
                </a:moveTo>
                <a:cubicBezTo>
                  <a:pt x="13" y="81"/>
                  <a:pt x="26" y="140"/>
                  <a:pt x="45" y="136"/>
                </a:cubicBezTo>
                <a:cubicBezTo>
                  <a:pt x="64" y="132"/>
                  <a:pt x="98" y="26"/>
                  <a:pt x="11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57200" y="27468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складності екзамену відповідає 0,8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при складності захисту модуля 0,7 і складності захисту ЛР 0,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58920" y="270792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дисципліна зарахована, у відношенні до загальної кількості студе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студентів, яким дисципліна не зарахована, у відношенні до загальної кількості студенті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ькість студентів, яким рекомендоване повторне навчання, у відношенні до загальної кількості студентів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допустимої кількості пропусків у відношенні до загальної кількості пропусків (= 0,6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є завантаження декана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допусків з причини невідвідува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кількість не складених іспи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слідження оптимального обмеження на допуск до екзамену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кількості успішних контролів відвідув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1640" y="1592280"/>
            <a:ext cx="5761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итерій вибору оптимального 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8360" y="2060640"/>
                <a:ext cx="8130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431640" y="115920"/>
            <a:ext cx="8229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тимальне значення обмеження на допуск до екзамену складає 1 успішний контроль відвідування (з трьох проведених у семестрі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4360" y="1305000"/>
          <a:ext cx="2773080" cy="1754280"/>
        </p:xfrm>
        <a:graphic>
          <a:graphicData uri="http://schemas.openxmlformats.org/drawingml/2006/table">
            <a:tbl>
              <a:tblPr/>
              <a:tblGrid>
                <a:gridCol w="1290240"/>
                <a:gridCol w="1482840"/>
              </a:tblGrid>
              <a:tr h="52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меження на допус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35280" y="981000"/>
          <a:ext cx="5133960" cy="23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981000"/>
                    <a:ext cx="513396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63640" y="3789360"/>
          <a:ext cx="2448000" cy="2052720"/>
        </p:xfrm>
        <a:graphic>
          <a:graphicData uri="http://schemas.openxmlformats.org/drawingml/2006/table">
            <a:tbl>
              <a:tblPr/>
              <a:tblGrid>
                <a:gridCol w="1260360"/>
                <a:gridCol w="1187640"/>
              </a:tblGrid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ження на допу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к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564000" y="3537000"/>
          <a:ext cx="5133960" cy="24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37000"/>
                    <a:ext cx="513396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5640" y="151920"/>
            <a:ext cx="86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’єктно-орієнтована модель навчальн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2080" y="1553760"/>
            <a:ext cx="7900920" cy="4978440"/>
            <a:chOff x="442080" y="1553760"/>
            <a:chExt cx="7900920" cy="4978440"/>
          </a:xfrm>
        </p:grpSpPr>
        <p:sp>
          <p:nvSpPr>
            <p:cNvPr id="125" name=""/>
            <p:cNvSpPr/>
            <p:nvPr/>
          </p:nvSpPr>
          <p:spPr>
            <a:xfrm>
              <a:off x="2182680" y="1571760"/>
              <a:ext cx="8697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р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63280" y="1571760"/>
              <a:ext cx="183456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бочий пл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6680" y="4061160"/>
              <a:ext cx="1008000" cy="51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клада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1760" y="2425320"/>
              <a:ext cx="11768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уд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50840" y="2407320"/>
              <a:ext cx="15994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циплі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8480" y="3385080"/>
              <a:ext cx="12218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3000" y="3367080"/>
              <a:ext cx="12218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51960" y="3989880"/>
              <a:ext cx="1268640" cy="69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боргованос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4960" y="1927440"/>
              <a:ext cx="7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79840" y="1927440"/>
              <a:ext cx="108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9080" y="2780280"/>
              <a:ext cx="58788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51960" y="2763360"/>
              <a:ext cx="1128240" cy="62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43880" y="1553760"/>
              <a:ext cx="14104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зкла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593160" y="3741120"/>
              <a:ext cx="1404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1440" y="3741120"/>
              <a:ext cx="2818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080" y="5447520"/>
              <a:ext cx="775944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Імітац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046280" y="2780280"/>
              <a:ext cx="21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6480" y="2797920"/>
              <a:ext cx="23400" cy="26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1560" y="4043520"/>
              <a:ext cx="1270080" cy="69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ідвід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59400" y="3723120"/>
              <a:ext cx="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36600" y="2763360"/>
              <a:ext cx="1080" cy="26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49840" y="1927440"/>
              <a:ext cx="72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840" y="6016680"/>
              <a:ext cx="7760160" cy="51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руктурно-логічна схема класів об’єктно-орієнтованої моделі навчального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47440" y="3918600"/>
              <a:ext cx="1171080" cy="11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значити поточний час семест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52240" y="5056920"/>
              <a:ext cx="72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43880" y="2407320"/>
              <a:ext cx="1412640" cy="49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ара за розкла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1400" y="4576680"/>
              <a:ext cx="0" cy="87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225360"/>
            <a:ext cx="2170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Студ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м’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за списком у груп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витрачений на нав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точний 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ий студ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удент із заданим ім’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ім’я студ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азву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омер за списком у журналі гр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своїти номер за списком у журналі гру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час нав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поточний 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час навчання на задану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поточний стан на задане знач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азву групи, в якій навч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08360" y="189000"/>
            <a:ext cx="33112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одного студента з однієї дисциплін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студ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пропусків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боргованостей з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рахованих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перескладань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заборгованостей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ий жур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пропусків з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заборгованостей з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зарахованих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ернути кількість пересклад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пропусків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заборгованостей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зарахованих модулів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більшити кількість перескладань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еншити кількість заборгованостей (на одиниц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89000"/>
            <a:ext cx="2881440" cy="64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uk-UA" sz="1200" spc="-1" strike="noStrike" u="sng">
                <a:solidFill>
                  <a:srgbClr val="000000"/>
                </a:solidFill>
                <a:uFillTx/>
                <a:latin typeface="Arial"/>
              </a:rPr>
              <a:t>Пара за розкладом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ня за розкла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мер пари за розкла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исок тижнів, в які проводиться занят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виду заняття (Л, ЛР або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я викладача, що веде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 п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ара із заданим днем, номером пари, назвою дисципліни та іменем викл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ара із заданим днем, номером пари, списком тижнів, назвою дисципліни та іменем викл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ім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я викладача, що веде занятт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назву дисциплі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відомити про номер пар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значити чи є в списку тижнів тиждень з указаним номер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день проведення на заняття на за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омер пари, в який провадиться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викладача, який проводить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мінити назву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584280"/>
            <a:ext cx="3708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 Дисциплі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По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ва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годин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явність екзамену, заліку,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модул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лекцій, лабораторних робіт, практичних занять в кожному модул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ількість годин в одній лекції, одній ЛР, одному П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відвідування заняття(лекції, лабораторної роботи, практичного занятт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в середньому на залік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складання заліку з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в середньому на захист модульної контрольно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зарахування модульної контрольно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на складання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складання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, що витрачається на захист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Ймовірність позитивного результату захисту РГР, курсового проекту, курсової роб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0000" y="657360"/>
            <a:ext cx="410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Конструкто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уста дисциплі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сципліна із заданими параметрами (додатковий параметр допустима кількість пропусків розраховується як 2/3 від загальної кількості аудиторних заня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азву дисциплі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номер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своїти номер за робочи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лекцію, ЛР, практичне за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відомити про кількість модулів, кількість лекцій, ЛР та практичних занять в модул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лекц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Л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вчання групи студентів на практичному занят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моду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моду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Р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курсового проекту (курсової робо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кладання групою студентів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ісп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ескладання студентом (курсового проекту, курсової робо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ди, типи та форми контролю навчальної діяль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7199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иди контрол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відвід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організації і проведення занять (у відповідності до розкладу, до робочої програми дисципліни, до навчального плану спеціальност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успіш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нтроль якості зн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ипи контрол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ількіс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іс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 контрол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хідн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іодичний контроль (модульний, рейтинговий, семестровий, підсумковий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бірков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точний контр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1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51920"/>
            <a:ext cx="878544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лькісні показники результатів різних видів контролю навчаль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358920" y="1268280"/>
            <a:ext cx="3025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відвідування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пропусків занять без поважної причини (одного студента за один навчальний тижден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пропусків занять з поважної причини середня загальна кількість занять студента у навчальному тиж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пропусків занять студента без поважної причи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попусків занять студента з поважної причи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2"/>
          <p:cNvSpPr/>
          <p:nvPr/>
        </p:nvSpPr>
        <p:spPr>
          <a:xfrm>
            <a:off x="3816360" y="1268280"/>
            <a:ext cx="511164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організації і проведення занят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за розклад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відповідно до робочої програми дисциплі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кількість занять викладача, що були проведені не відповідно до навчального плану спеціальності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я загальна кількість проведених заня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розклад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робочою програмо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занять, проведених викладачем не за навчальним планом спеціальн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одержимое 2"/>
          <p:cNvSpPr/>
          <p:nvPr/>
        </p:nvSpPr>
        <p:spPr>
          <a:xfrm>
            <a:off x="719280" y="836640"/>
            <a:ext cx="3852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успішності навч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модульного контрол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сесійного контролю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з успішністю навчання „добре” та „відмінно”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із заборгованостя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184720" y="836640"/>
            <a:ext cx="30592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 якості знан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 з успішністю державної атестації „добре” та „відмінно”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, дипломні проекти яких мають впровадження та практичну спрямованість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відсоток студентів, що працюють за спеціальніст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55280" y="1881360"/>
            <a:ext cx="820908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Критерій якості відвід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Критерій якості організації і проведення з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Критерій якості навч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Критерій якості зн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216000" y="549360"/>
            <a:ext cx="8785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кісні показники результатів різних видів контролю навчаль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відвідув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44936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студента протягом одного навчального тиж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загальна кількість занять студента у навчальному тижні, що визначається робочим пл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без поважної причини (одного студента за один навчальний тижден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середня кількість пропусків занять з поважної причини (одного студента за один навчальний тижден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ередня загальна кількість занять студента у навчальному тиж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66920" y="1341360"/>
                <a:ext cx="226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735280" y="3392640"/>
                <a:ext cx="26272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організації і проведення занять ВН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3280" y="310464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кількість занять, що були проведені не за розкла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кількість занять, що були проведені не відповідно до робочої програми дисциплі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кількість занять, що були проведені не відповідно до навчального плану спеціа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загальна кількість проведених за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00360" y="1989000"/>
                <a:ext cx="33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навч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2168640"/>
            <a:ext cx="83898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модульного контрол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ній бал студентів за результатами сесійного контрол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відсоток студентів з успішністю навчання „добре” та „відмінно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відсоток студентів із заборгованост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німально допустиме значення критерію, при якому якість навчання оцінюється як задовільна, розраховується наступним чином: 60+75+20-0=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чення критерію, при якому якість навчання оцінюється як добра, складає: 80+80+40-0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що значення критерію якості навчання більше за 200, то якість навчання оцінюється як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уже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84360" y="1413000"/>
                <a:ext cx="550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Критерій якості зн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1112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 U1 – відсоток студентів з успішністю державної атестації „добре” та „відмінно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–відсоток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дентів, дипломні проекти яких мають впровадження та практичну спрямовані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 – відсоток студентів, що працюють за спеціальніст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79640" y="1628640"/>
                <a:ext cx="468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5:25:34Z</dcterms:created>
  <dc:creator>Инна</dc:creator>
  <dc:description/>
  <dc:language>en-US</dc:language>
  <cp:lastModifiedBy>Дифучин Ю Н</cp:lastModifiedBy>
  <dcterms:modified xsi:type="dcterms:W3CDTF">2009-11-11T18:10:15Z</dcterms:modified>
  <cp:revision>115</cp:revision>
  <dc:subject/>
  <dc:title>ІНФОРМАЦІЙНА ТЕХНОЛОГІЯ ВИЗНАЧЕННЯ ОПТИМАЛЬНИХ ПАРАМЕТРІВ УПРАВЛІННЯ ТРАНСПОРТНИМ РУХОМ ЧЕРЕЗ СВТЛОФОРНІ ОБ’ЄКТИ МІСТА</dc:title>
</cp:coreProperties>
</file>